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CHIMES.WAV" ContentType="audio/x-wav"/>
  <Override PartName="/ppt/media/CASHREG.WAV" ContentType="audio/x-wav"/>
  <Override PartName="/ppt/media/CAMERA.WAV" ContentType="audio/x-wav"/>
  <Override PartName="/ppt/media/image1.wmf" ContentType="image/x-wmf"/>
  <Override PartName="/ppt/media/LASER.WAV" ContentType="audio/x-wav"/>
  <Override PartName="/ppt/media/DRIVEBY.WAV" ContentType="audio/x-wav"/>
  <Override PartName="/ppt/media/CARBRAKE.WAV" ContentType="audio/x-wav"/>
  <Override PartName="/ppt/media/WHOOSH.WAV" ContentType="audio/x-wav"/>
  <Override PartName="/ppt/media/explode.wav" ContentType="audio/x-wav"/>
  <Override PartName="/ppt/media/zapbig0g.wav" ContentType="audio/x-wav"/>
  <Override PartName="/ppt/media/caralarmoff.wav" ContentType="audio/x-wav"/>
  <Override PartName="/ppt/media/image2.wmf" ContentType="image/x-wmf"/>
  <Override PartName="/ppt/media/PROJCTOR.WAV" ContentType="audio/x-wav"/>
  <Override PartName="/ppt/media/EXPLODE.WAV" ContentType="audio/x-wav"/>
  <Override PartName="/ppt/media/zipup202.wav" ContentType="audio/x-wav"/>
  <Override PartName="/ppt/media/yabba-dabba-do.wav" ContentType="audio/x-wav"/>
  <Override PartName="/ppt/media/image4.jpeg" ContentType="image/jpeg"/>
  <Override PartName="/ppt/media/jetflyby2.wav" ContentType="audio/x-wav"/>
  <Override PartName="/ppt/media/bserie06.wav" ContentType="audio/x-wav"/>
  <Override PartName="/ppt/media/image3.wmf" ContentType="image/x-wmf"/>
  <Override PartName="/ppt/media/GUNSHOT.WAV" ContentType="audio/x-wav"/>
  <Override PartName="/ppt/media/highchim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A97-B21D-4487-A79C-AC2199C8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D56-CB5B-416F-9C2B-AAC0E831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9E0-BA20-43C3-9F11-A4FFC0EA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8C2-ED91-4869-8DE2-32ED9B0D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498-013A-4F91-8080-B0049920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0C1-6294-46B7-8A52-22F570D5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D7E-36B6-469E-A120-34BB1F11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491-93F7-43E5-A7C8-9AAEF6DA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1C7-3036-43C4-933E-E993AC9A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3C0-7660-4250-8FE5-484A8EBE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F4E-40DE-42F4-82F9-3C4B364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52F-6DA0-42C1-8E18-7137CB5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ABE5-7379-406F-A35B-87BED1A79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WHOOSH.WAV"/><Relationship Id="rId8" Type="http://schemas.openxmlformats.org/officeDocument/2006/relationships/audio" Target="../media/GUNSHOT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CASHREG.WAV"/><Relationship Id="rId28" Type="http://schemas.openxmlformats.org/officeDocument/2006/relationships/audio" Target="../media/CASHREG.WAV"/><Relationship Id="rId29" Type="http://schemas.openxmlformats.org/officeDocument/2006/relationships/audio" Target="../media/PROJCTOR.WAV"/><Relationship Id="rId30" Type="http://schemas.openxmlformats.org/officeDocument/2006/relationships/audio" Target="../media/CARBRAKE.WAV"/><Relationship Id="rId31" Type="http://schemas.openxmlformats.org/officeDocument/2006/relationships/audio" Target="../media/DRIVEBY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explod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zipup202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CHIMES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HIMES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HIMES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zapbig0g.wav"/><Relationship Id="rId8" Type="http://schemas.openxmlformats.org/officeDocument/2006/relationships/audio" Target="../media/CHIMES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HIMES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zapbig0g.wav"/><Relationship Id="rId8" Type="http://schemas.openxmlformats.org/officeDocument/2006/relationships/audio" Target="../media/CHIMES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bserie06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bserie06.wav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zapbig0g.wav"/><Relationship Id="rId14" Type="http://schemas.openxmlformats.org/officeDocument/2006/relationships/audio" Target="../media/CHIMES.WAV"/><Relationship Id="rId15" Type="http://schemas.openxmlformats.org/officeDocument/2006/relationships/audio" Target="../media/yabba-dabba-do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3657600" cy="3657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1523880"/>
            <a:ext cx="3657600" cy="3657600"/>
            <a:chOff x="380880" y="1523880"/>
            <a:chExt cx="3657600" cy="3657600"/>
          </a:xfrm>
        </p:grpSpPr>
        <p:sp>
          <p:nvSpPr>
            <p:cNvPr id="45" name=""/>
            <p:cNvSpPr/>
            <p:nvPr/>
          </p:nvSpPr>
          <p:spPr>
            <a:xfrm flipV="1">
              <a:off x="2209680" y="15238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80" y="33526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8080" y="2057400"/>
              <a:ext cx="274320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38080" y="2133360"/>
              <a:ext cx="274320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560" y="1676160"/>
              <a:ext cx="152388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371240" y="1676160"/>
              <a:ext cx="167652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6840" y="2666880"/>
              <a:ext cx="34290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56840" y="2743200"/>
              <a:ext cx="34290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1911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44193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49528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48640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60195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65530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708660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76197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81532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400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lf the circum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295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= b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4648320"/>
            <a:ext cx="0" cy="182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0"/>
            <a:endCxn id="73" idx="1"/>
          </p:cNvCxnSpPr>
          <p:nvPr/>
        </p:nvCxnSpPr>
        <p:spPr>
          <a:xfrm flipV="1">
            <a:off x="6324480" y="4344480"/>
            <a:ext cx="914760" cy="304200"/>
          </a:xfrm>
          <a:prstGeom prst="curvedConnector3">
            <a:avLst>
              <a:gd name="adj1" fmla="val 2653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75" name=""/>
          <p:cNvGraphicFramePr/>
          <p:nvPr/>
        </p:nvGraphicFramePr>
        <p:xfrm>
          <a:off x="4724280" y="2057400"/>
          <a:ext cx="41148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114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3124080"/>
          <a:ext cx="352080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124080"/>
                    <a:ext cx="35208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48320" y="3533760"/>
          <a:ext cx="3352680" cy="63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533760"/>
                    <a:ext cx="3352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80880" y="1447560"/>
            <a:ext cx="3048120" cy="2867760"/>
            <a:chOff x="380880" y="1447560"/>
            <a:chExt cx="3048120" cy="2867760"/>
          </a:xfrm>
        </p:grpSpPr>
        <p:sp>
          <p:nvSpPr>
            <p:cNvPr id="243" name=""/>
            <p:cNvSpPr/>
            <p:nvPr/>
          </p:nvSpPr>
          <p:spPr>
            <a:xfrm>
              <a:off x="380880" y="37339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is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914400" y="1447560"/>
              <a:ext cx="1828800" cy="2210040"/>
              <a:chOff x="914400" y="1447560"/>
              <a:chExt cx="1828800" cy="2210040"/>
            </a:xfrm>
          </p:grpSpPr>
          <p:sp>
            <p:nvSpPr>
              <p:cNvPr id="245" name=""/>
              <p:cNvSpPr/>
              <p:nvPr/>
            </p:nvSpPr>
            <p:spPr>
              <a:xfrm>
                <a:off x="2286000" y="144792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14400" y="30481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14400" y="14479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0800000">
                <a:off x="914400" y="144756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71600" y="144792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914400" y="1752480"/>
                <a:ext cx="457200" cy="190512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71600" y="205740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3276720" y="2133720"/>
            <a:ext cx="2438280" cy="3248640"/>
            <a:chOff x="3276720" y="2133720"/>
            <a:chExt cx="2438280" cy="3248640"/>
          </a:xfrm>
        </p:grpSpPr>
        <p:sp>
          <p:nvSpPr>
            <p:cNvPr id="253" name=""/>
            <p:cNvSpPr/>
            <p:nvPr/>
          </p:nvSpPr>
          <p:spPr>
            <a:xfrm>
              <a:off x="3429000" y="4038840"/>
              <a:ext cx="228600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2133720"/>
              <a:ext cx="1143000" cy="2210040"/>
            </a:xfrm>
            <a:custGeom>
              <a:avLst/>
              <a:gdLst/>
              <a:ahLst/>
              <a:rect l="l" t="t" r="r" b="b"/>
              <a:pathLst>
                <a:path w="720" h="1392">
                  <a:moveTo>
                    <a:pt x="720" y="1200"/>
                  </a:moveTo>
                  <a:lnTo>
                    <a:pt x="720" y="0"/>
                  </a:lnTo>
                  <a:lnTo>
                    <a:pt x="0" y="1392"/>
                  </a:lnTo>
                  <a:lnTo>
                    <a:pt x="720" y="120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571280" y="2133720"/>
              <a:ext cx="1143000" cy="2210040"/>
            </a:xfrm>
            <a:custGeom>
              <a:avLst/>
              <a:gdLst/>
              <a:ahLst/>
              <a:rect l="l" t="t" r="r" b="b"/>
              <a:pathLst>
                <a:path w="720" h="1392">
                  <a:moveTo>
                    <a:pt x="720" y="1200"/>
                  </a:moveTo>
                  <a:lnTo>
                    <a:pt x="720" y="0"/>
                  </a:lnTo>
                  <a:lnTo>
                    <a:pt x="0" y="1392"/>
                  </a:lnTo>
                  <a:lnTo>
                    <a:pt x="720" y="120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0" y="2133720"/>
              <a:ext cx="1143000" cy="2667240"/>
            </a:xfrm>
            <a:custGeom>
              <a:avLst/>
              <a:gdLst/>
              <a:ahLst/>
              <a:rect l="l" t="t" r="r" b="b"/>
              <a:pathLst>
                <a:path w="720" h="1680">
                  <a:moveTo>
                    <a:pt x="432" y="1680"/>
                  </a:moveTo>
                  <a:lnTo>
                    <a:pt x="720" y="1392"/>
                  </a:lnTo>
                  <a:lnTo>
                    <a:pt x="0" y="0"/>
                  </a:lnTo>
                  <a:lnTo>
                    <a:pt x="432" y="168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428280" y="2133720"/>
              <a:ext cx="1143000" cy="2667240"/>
            </a:xfrm>
            <a:custGeom>
              <a:avLst/>
              <a:gdLst/>
              <a:ahLst/>
              <a:rect l="l" t="t" r="r" b="b"/>
              <a:pathLst>
                <a:path w="720" h="1680">
                  <a:moveTo>
                    <a:pt x="432" y="1680"/>
                  </a:moveTo>
                  <a:lnTo>
                    <a:pt x="720" y="1392"/>
                  </a:lnTo>
                  <a:lnTo>
                    <a:pt x="0" y="0"/>
                  </a:lnTo>
                  <a:lnTo>
                    <a:pt x="432" y="1680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133720"/>
              <a:ext cx="1371600" cy="2667240"/>
            </a:xfrm>
            <a:prstGeom prst="triangle">
              <a:avLst>
                <a:gd name="adj" fmla="val 50000"/>
              </a:avLst>
            </a:prstGeom>
            <a:solidFill>
              <a:srgbClr val="99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76720" y="480096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yrami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5800" y="4419720"/>
            <a:ext cx="2362320" cy="2440080"/>
            <a:chOff x="685800" y="4419720"/>
            <a:chExt cx="2362320" cy="2440080"/>
          </a:xfrm>
        </p:grpSpPr>
        <p:sp>
          <p:nvSpPr>
            <p:cNvPr id="261" name=""/>
            <p:cNvSpPr/>
            <p:nvPr/>
          </p:nvSpPr>
          <p:spPr>
            <a:xfrm>
              <a:off x="838080" y="4419720"/>
              <a:ext cx="2133720" cy="1752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62784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ylin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48520" y="1600200"/>
            <a:ext cx="2438280" cy="2410200"/>
            <a:chOff x="6248520" y="1600200"/>
            <a:chExt cx="2438280" cy="2410200"/>
          </a:xfrm>
        </p:grpSpPr>
        <p:sp>
          <p:nvSpPr>
            <p:cNvPr id="264" name=""/>
            <p:cNvSpPr/>
            <p:nvPr/>
          </p:nvSpPr>
          <p:spPr>
            <a:xfrm>
              <a:off x="6248520" y="1600200"/>
              <a:ext cx="2438280" cy="160020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720" y="0"/>
                  </a:lnTo>
                  <a:lnTo>
                    <a:pt x="153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3048120"/>
              <a:ext cx="24382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34320" y="342900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867280" y="4343400"/>
            <a:ext cx="2362320" cy="2516400"/>
            <a:chOff x="5867280" y="4343400"/>
            <a:chExt cx="2362320" cy="2516400"/>
          </a:xfrm>
        </p:grpSpPr>
        <p:sp>
          <p:nvSpPr>
            <p:cNvPr id="268" name=""/>
            <p:cNvSpPr/>
            <p:nvPr/>
          </p:nvSpPr>
          <p:spPr>
            <a:xfrm>
              <a:off x="6095880" y="4343400"/>
              <a:ext cx="2057400" cy="19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95880" y="5181480"/>
              <a:ext cx="2057400" cy="3812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7280" y="62784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 and name the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28600" y="2209680"/>
            <a:ext cx="3124080" cy="1371600"/>
            <a:chOff x="228600" y="2209680"/>
            <a:chExt cx="3124080" cy="1371600"/>
          </a:xfrm>
        </p:grpSpPr>
        <p:sp>
          <p:nvSpPr>
            <p:cNvPr id="275" name=""/>
            <p:cNvSpPr/>
            <p:nvPr/>
          </p:nvSpPr>
          <p:spPr>
            <a:xfrm>
              <a:off x="533520" y="2209680"/>
              <a:ext cx="2361960" cy="1371600"/>
            </a:xfrm>
            <a:custGeom>
              <a:avLst/>
              <a:gdLst/>
              <a:ahLst/>
              <a:rect l="l" t="t" r="r" b="b"/>
              <a:pathLst>
                <a:path w="1488" h="864">
                  <a:moveTo>
                    <a:pt x="288" y="144"/>
                  </a:moveTo>
                  <a:lnTo>
                    <a:pt x="1488" y="0"/>
                  </a:lnTo>
                  <a:lnTo>
                    <a:pt x="1200" y="720"/>
                  </a:lnTo>
                  <a:lnTo>
                    <a:pt x="0" y="864"/>
                  </a:lnTo>
                  <a:lnTo>
                    <a:pt x="288" y="1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2438280"/>
              <a:ext cx="914400" cy="1143000"/>
            </a:xfrm>
            <a:prstGeom prst="triangle">
              <a:avLst>
                <a:gd name="adj" fmla="val 50000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38280" y="2209680"/>
              <a:ext cx="914400" cy="1143000"/>
            </a:xfrm>
            <a:prstGeom prst="triangle">
              <a:avLst>
                <a:gd name="adj" fmla="val 50000"/>
              </a:avLst>
            </a:prstGeom>
            <a:solidFill>
              <a:srgbClr val="00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228600" y="2209680"/>
              <a:ext cx="3124080" cy="1371600"/>
              <a:chOff x="228600" y="2209680"/>
              <a:chExt cx="3124080" cy="1371600"/>
            </a:xfrm>
          </p:grpSpPr>
          <p:sp>
            <p:nvSpPr>
              <p:cNvPr id="279" name=""/>
              <p:cNvSpPr/>
              <p:nvPr/>
            </p:nvSpPr>
            <p:spPr>
              <a:xfrm>
                <a:off x="990720" y="2209680"/>
                <a:ext cx="2361960" cy="1371600"/>
              </a:xfrm>
              <a:custGeom>
                <a:avLst/>
                <a:gdLst/>
                <a:ahLst/>
                <a:rect l="l" t="t" r="r" b="b"/>
                <a:pathLst>
                  <a:path w="1488" h="864">
                    <a:moveTo>
                      <a:pt x="0" y="144"/>
                    </a:moveTo>
                    <a:lnTo>
                      <a:pt x="1200" y="0"/>
                    </a:lnTo>
                    <a:lnTo>
                      <a:pt x="1488" y="720"/>
                    </a:lnTo>
                    <a:lnTo>
                      <a:pt x="288" y="86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8600" y="22860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152280" y="3657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43434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724280" y="2133720"/>
            <a:ext cx="2895840" cy="2514600"/>
            <a:chOff x="4724280" y="2133720"/>
            <a:chExt cx="2895840" cy="2514600"/>
          </a:xfrm>
        </p:grpSpPr>
        <p:sp>
          <p:nvSpPr>
            <p:cNvPr id="284" name=""/>
            <p:cNvSpPr/>
            <p:nvPr/>
          </p:nvSpPr>
          <p:spPr>
            <a:xfrm>
              <a:off x="4724280" y="3809880"/>
              <a:ext cx="2895840" cy="838440"/>
            </a:xfrm>
            <a:prstGeom prst="hexagon">
              <a:avLst>
                <a:gd name="adj" fmla="val 86346"/>
                <a:gd name="vf" fmla="val 11547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400" y="2133720"/>
              <a:ext cx="1371600" cy="1676160"/>
            </a:xfrm>
            <a:custGeom>
              <a:avLst/>
              <a:gdLst/>
              <a:ahLst/>
              <a:rect l="l" t="t" r="r" b="b"/>
              <a:pathLst>
                <a:path w="864" h="1056">
                  <a:moveTo>
                    <a:pt x="0" y="1056"/>
                  </a:moveTo>
                  <a:lnTo>
                    <a:pt x="864" y="1056"/>
                  </a:lnTo>
                  <a:lnTo>
                    <a:pt x="432" y="0"/>
                  </a:lnTo>
                  <a:lnTo>
                    <a:pt x="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24280" y="2133720"/>
              <a:ext cx="1447920" cy="2133360"/>
            </a:xfrm>
            <a:custGeom>
              <a:avLst/>
              <a:gdLst/>
              <a:ahLst/>
              <a:rect l="l" t="t" r="r" b="b"/>
              <a:pathLst>
                <a:path w="912" h="1344">
                  <a:moveTo>
                    <a:pt x="480" y="1056"/>
                  </a:moveTo>
                  <a:lnTo>
                    <a:pt x="912" y="0"/>
                  </a:lnTo>
                  <a:lnTo>
                    <a:pt x="0" y="1344"/>
                  </a:lnTo>
                  <a:lnTo>
                    <a:pt x="48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172200" y="2133720"/>
              <a:ext cx="1447920" cy="2133360"/>
            </a:xfrm>
            <a:custGeom>
              <a:avLst/>
              <a:gdLst/>
              <a:ahLst/>
              <a:rect l="l" t="t" r="r" b="b"/>
              <a:pathLst>
                <a:path w="912" h="1344">
                  <a:moveTo>
                    <a:pt x="480" y="1056"/>
                  </a:moveTo>
                  <a:lnTo>
                    <a:pt x="912" y="0"/>
                  </a:lnTo>
                  <a:lnTo>
                    <a:pt x="0" y="1344"/>
                  </a:lnTo>
                  <a:lnTo>
                    <a:pt x="480" y="1056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24280" y="2133720"/>
              <a:ext cx="1447920" cy="2514600"/>
            </a:xfrm>
            <a:custGeom>
              <a:avLst/>
              <a:gdLst/>
              <a:ahLst/>
              <a:rect l="l" t="t" r="r" b="b"/>
              <a:pathLst>
                <a:path w="912" h="1584">
                  <a:moveTo>
                    <a:pt x="0" y="1344"/>
                  </a:moveTo>
                  <a:lnTo>
                    <a:pt x="912" y="0"/>
                  </a:lnTo>
                  <a:lnTo>
                    <a:pt x="480" y="158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72200" y="2133720"/>
              <a:ext cx="1447920" cy="2514600"/>
            </a:xfrm>
            <a:custGeom>
              <a:avLst/>
              <a:gdLst/>
              <a:ahLst/>
              <a:rect l="l" t="t" r="r" b="b"/>
              <a:pathLst>
                <a:path w="912" h="1584">
                  <a:moveTo>
                    <a:pt x="0" y="1344"/>
                  </a:moveTo>
                  <a:lnTo>
                    <a:pt x="912" y="0"/>
                  </a:lnTo>
                  <a:lnTo>
                    <a:pt x="480" y="1584"/>
                  </a:lnTo>
                  <a:lnTo>
                    <a:pt x="0" y="1344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4280" y="22860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572000" y="4648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5257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aming Space Fig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figure drawn from each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2057400"/>
            <a:ext cx="3429000" cy="3429000"/>
            <a:chOff x="457200" y="2057400"/>
            <a:chExt cx="3429000" cy="3429000"/>
          </a:xfrm>
        </p:grpSpPr>
        <p:grpSp>
          <p:nvGrpSpPr>
            <p:cNvPr id="297" name=""/>
            <p:cNvGrpSpPr/>
            <p:nvPr/>
          </p:nvGrpSpPr>
          <p:grpSpPr>
            <a:xfrm>
              <a:off x="457200" y="2057400"/>
              <a:ext cx="3429000" cy="3429000"/>
              <a:chOff x="457200" y="2057400"/>
              <a:chExt cx="3429000" cy="3429000"/>
            </a:xfrm>
          </p:grpSpPr>
          <p:sp>
            <p:nvSpPr>
              <p:cNvPr id="298" name=""/>
              <p:cNvSpPr/>
              <p:nvPr/>
            </p:nvSpPr>
            <p:spPr>
              <a:xfrm>
                <a:off x="1447920" y="3048120"/>
                <a:ext cx="1447560" cy="1447560"/>
              </a:xfrm>
              <a:prstGeom prst="octagon">
                <a:avLst>
                  <a:gd name="adj" fmla="val 2928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28800" y="20574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700000">
                <a:off x="2705400" y="240012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400000">
                <a:off x="3085920" y="32382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100000">
                <a:off x="2742480" y="411480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0800000">
                <a:off x="1904760" y="449568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3500000">
                <a:off x="1028160" y="415224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6200000">
                <a:off x="647640" y="331416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8900000">
                <a:off x="990720" y="2437920"/>
                <a:ext cx="609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457200" y="2209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2860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t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419720" y="1981080"/>
            <a:ext cx="4343400" cy="3505320"/>
            <a:chOff x="4419720" y="1981080"/>
            <a:chExt cx="4343400" cy="3505320"/>
          </a:xfrm>
        </p:grpSpPr>
        <p:grpSp>
          <p:nvGrpSpPr>
            <p:cNvPr id="310" name=""/>
            <p:cNvGrpSpPr/>
            <p:nvPr/>
          </p:nvGrpSpPr>
          <p:grpSpPr>
            <a:xfrm>
              <a:off x="4419720" y="1981080"/>
              <a:ext cx="4343400" cy="3505320"/>
              <a:chOff x="4419720" y="1981080"/>
              <a:chExt cx="4343400" cy="3505320"/>
            </a:xfrm>
          </p:grpSpPr>
          <p:sp>
            <p:nvSpPr>
              <p:cNvPr id="311" name=""/>
              <p:cNvSpPr/>
              <p:nvPr/>
            </p:nvSpPr>
            <p:spPr>
              <a:xfrm>
                <a:off x="6934320" y="3962520"/>
                <a:ext cx="1828800" cy="8380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 rot="10800000">
                <a:off x="4419720" y="3962520"/>
                <a:ext cx="1828800" cy="838080"/>
              </a:xfrm>
              <a:prstGeom prst="rtTriangle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34320" y="4800600"/>
                <a:ext cx="1828800" cy="6858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48520" y="3962520"/>
                <a:ext cx="685800" cy="8380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48520" y="1981080"/>
                <a:ext cx="685800" cy="19814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562720" y="2286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472428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(s) and name the fig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1714320" y="2398320"/>
            <a:ext cx="2895480" cy="838080"/>
          </a:xfrm>
          <a:prstGeom prst="hexagon">
            <a:avLst>
              <a:gd name="adj" fmla="val 86372"/>
              <a:gd name="vf" fmla="val 115470"/>
            </a:avLst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1218960" y="1979280"/>
            <a:ext cx="1371600" cy="1676520"/>
          </a:xfrm>
          <a:custGeom>
            <a:avLst/>
            <a:gdLst/>
            <a:ahLst/>
            <a:rect l="l" t="t" r="r" b="b"/>
            <a:pathLst>
              <a:path w="864" h="1056">
                <a:moveTo>
                  <a:pt x="0" y="1056"/>
                </a:moveTo>
                <a:lnTo>
                  <a:pt x="864" y="1056"/>
                </a:lnTo>
                <a:lnTo>
                  <a:pt x="432" y="0"/>
                </a:lnTo>
                <a:lnTo>
                  <a:pt x="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1409400" y="2474640"/>
            <a:ext cx="1447920" cy="2133720"/>
          </a:xfrm>
          <a:custGeom>
            <a:avLst/>
            <a:gdLst/>
            <a:ahLst/>
            <a:rect l="l" t="t" r="r" b="b"/>
            <a:pathLst>
              <a:path w="912" h="1344">
                <a:moveTo>
                  <a:pt x="480" y="1056"/>
                </a:moveTo>
                <a:lnTo>
                  <a:pt x="912" y="0"/>
                </a:lnTo>
                <a:lnTo>
                  <a:pt x="0" y="1344"/>
                </a:lnTo>
                <a:lnTo>
                  <a:pt x="48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16200000">
            <a:off x="1407240" y="1027080"/>
            <a:ext cx="1447560" cy="2133720"/>
          </a:xfrm>
          <a:custGeom>
            <a:avLst/>
            <a:gdLst/>
            <a:ahLst/>
            <a:rect l="l" t="t" r="r" b="b"/>
            <a:pathLst>
              <a:path w="912" h="1344">
                <a:moveTo>
                  <a:pt x="480" y="1056"/>
                </a:moveTo>
                <a:lnTo>
                  <a:pt x="912" y="0"/>
                </a:lnTo>
                <a:lnTo>
                  <a:pt x="0" y="1344"/>
                </a:lnTo>
                <a:lnTo>
                  <a:pt x="480" y="1056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1600200" y="2285640"/>
            <a:ext cx="144756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0" y="1344"/>
                </a:moveTo>
                <a:lnTo>
                  <a:pt x="912" y="0"/>
                </a:lnTo>
                <a:lnTo>
                  <a:pt x="480" y="1584"/>
                </a:lnTo>
                <a:lnTo>
                  <a:pt x="0" y="1344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rot="16200000">
            <a:off x="1598760" y="83808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0" y="1344"/>
                </a:moveTo>
                <a:lnTo>
                  <a:pt x="912" y="0"/>
                </a:lnTo>
                <a:lnTo>
                  <a:pt x="480" y="1584"/>
                </a:lnTo>
                <a:lnTo>
                  <a:pt x="0" y="1344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4419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5029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57600" y="1654200"/>
            <a:ext cx="1262160" cy="1582560"/>
          </a:xfrm>
          <a:custGeom>
            <a:avLst/>
            <a:gdLst/>
            <a:ahLst/>
            <a:rect l="l" t="t" r="r" b="b"/>
            <a:pathLst>
              <a:path w="795" h="997">
                <a:moveTo>
                  <a:pt x="0" y="677"/>
                </a:moveTo>
                <a:lnTo>
                  <a:pt x="228" y="0"/>
                </a:lnTo>
                <a:lnTo>
                  <a:pt x="795" y="265"/>
                </a:lnTo>
                <a:lnTo>
                  <a:pt x="795" y="887"/>
                </a:lnTo>
                <a:lnTo>
                  <a:pt x="347" y="997"/>
                </a:lnTo>
                <a:lnTo>
                  <a:pt x="0" y="677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91360" y="1660680"/>
            <a:ext cx="1261800" cy="1582560"/>
          </a:xfrm>
          <a:custGeom>
            <a:avLst/>
            <a:gdLst/>
            <a:ahLst/>
            <a:rect l="l" t="t" r="r" b="b"/>
            <a:pathLst>
              <a:path w="795" h="997">
                <a:moveTo>
                  <a:pt x="0" y="677"/>
                </a:moveTo>
                <a:lnTo>
                  <a:pt x="228" y="0"/>
                </a:lnTo>
                <a:lnTo>
                  <a:pt x="795" y="265"/>
                </a:lnTo>
                <a:lnTo>
                  <a:pt x="795" y="887"/>
                </a:lnTo>
                <a:lnTo>
                  <a:pt x="347" y="997"/>
                </a:lnTo>
                <a:lnTo>
                  <a:pt x="0" y="677"/>
                </a:lnTo>
                <a:close/>
              </a:path>
            </a:pathLst>
          </a:custGeom>
          <a:solidFill>
            <a:srgbClr val="66ff99"/>
          </a:solidFill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19760" y="1654200"/>
            <a:ext cx="2627280" cy="420840"/>
          </a:xfrm>
          <a:custGeom>
            <a:avLst/>
            <a:gdLst/>
            <a:ahLst/>
            <a:rect l="l" t="t" r="r" b="b"/>
            <a:pathLst>
              <a:path w="1655" h="265">
                <a:moveTo>
                  <a:pt x="0" y="0"/>
                </a:moveTo>
                <a:lnTo>
                  <a:pt x="1098" y="0"/>
                </a:lnTo>
                <a:lnTo>
                  <a:pt x="1655" y="265"/>
                </a:lnTo>
                <a:lnTo>
                  <a:pt x="567" y="265"/>
                </a:lnTo>
                <a:lnTo>
                  <a:pt x="0" y="0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19760" y="2060640"/>
            <a:ext cx="1727280" cy="1001520"/>
          </a:xfrm>
          <a:custGeom>
            <a:avLst/>
            <a:gdLst/>
            <a:ahLst/>
            <a:rect l="l" t="t" r="r" b="b"/>
            <a:pathLst>
              <a:path w="1088" h="631">
                <a:moveTo>
                  <a:pt x="0" y="0"/>
                </a:moveTo>
                <a:lnTo>
                  <a:pt x="1088" y="0"/>
                </a:lnTo>
                <a:lnTo>
                  <a:pt x="1088" y="631"/>
                </a:lnTo>
                <a:lnTo>
                  <a:pt x="0" y="631"/>
                </a:lnTo>
                <a:lnTo>
                  <a:pt x="0" y="0"/>
                </a:lnTo>
                <a:close/>
              </a:path>
            </a:pathLst>
          </a:custGeom>
          <a:solidFill>
            <a:srgbClr val="66ff99">
              <a:alpha val="4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43560" y="1639800"/>
            <a:ext cx="2133360" cy="1074960"/>
          </a:xfrm>
          <a:custGeom>
            <a:avLst/>
            <a:gdLst/>
            <a:ahLst/>
            <a:rect l="l" t="t" r="r" b="b"/>
            <a:pathLst>
              <a:path w="1344" h="677">
                <a:moveTo>
                  <a:pt x="237" y="0"/>
                </a:moveTo>
                <a:lnTo>
                  <a:pt x="1344" y="0"/>
                </a:lnTo>
                <a:lnTo>
                  <a:pt x="1106" y="677"/>
                </a:lnTo>
                <a:lnTo>
                  <a:pt x="0" y="677"/>
                </a:lnTo>
                <a:lnTo>
                  <a:pt x="237" y="0"/>
                </a:lnTo>
                <a:close/>
              </a:path>
            </a:pathLst>
          </a:custGeom>
          <a:solidFill>
            <a:srgbClr val="66ff99">
              <a:alpha val="2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8400" y="3062160"/>
            <a:ext cx="2438640" cy="174600"/>
          </a:xfrm>
          <a:custGeom>
            <a:avLst/>
            <a:gdLst/>
            <a:ahLst/>
            <a:rect l="l" t="t" r="r" b="b"/>
            <a:pathLst>
              <a:path w="1536" h="110">
                <a:moveTo>
                  <a:pt x="0" y="110"/>
                </a:moveTo>
                <a:lnTo>
                  <a:pt x="448" y="0"/>
                </a:lnTo>
                <a:lnTo>
                  <a:pt x="1536" y="0"/>
                </a:lnTo>
                <a:lnTo>
                  <a:pt x="1088" y="101"/>
                </a:lnTo>
                <a:lnTo>
                  <a:pt x="0" y="110"/>
                </a:lnTo>
                <a:close/>
              </a:path>
            </a:pathLst>
          </a:custGeom>
          <a:solidFill>
            <a:srgbClr val="66ff99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95640" y="179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76800" y="43988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ntag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95920" y="50086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ntagonal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030400" y="2727360"/>
            <a:ext cx="1103400" cy="1552680"/>
          </a:xfrm>
          <a:custGeom>
            <a:avLst/>
            <a:gdLst/>
            <a:ahLst/>
            <a:rect l="l" t="t" r="r" b="b"/>
            <a:pathLst>
              <a:path w="676" h="978">
                <a:moveTo>
                  <a:pt x="0" y="969"/>
                </a:moveTo>
                <a:lnTo>
                  <a:pt x="0" y="0"/>
                </a:lnTo>
                <a:lnTo>
                  <a:pt x="676" y="0"/>
                </a:lnTo>
                <a:lnTo>
                  <a:pt x="676" y="978"/>
                </a:lnTo>
                <a:lnTo>
                  <a:pt x="0" y="969"/>
                </a:lnTo>
                <a:close/>
              </a:path>
            </a:pathLst>
          </a:custGeom>
          <a:solidFill>
            <a:srgbClr val="cc99ff">
              <a:alpha val="40000"/>
            </a:srgbClr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figure, describe the base(s) and name the fig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4419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5029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31840" y="2990880"/>
            <a:ext cx="1103400" cy="1278000"/>
          </a:xfrm>
          <a:prstGeom prst="triangle">
            <a:avLst>
              <a:gd name="adj" fmla="val 38273"/>
            </a:avLst>
          </a:prstGeom>
          <a:solidFill>
            <a:srgbClr val="cc99ff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25720" y="1442880"/>
            <a:ext cx="1103400" cy="1278000"/>
          </a:xfrm>
          <a:prstGeom prst="triangle">
            <a:avLst>
              <a:gd name="adj" fmla="val 38273"/>
            </a:avLst>
          </a:prstGeom>
          <a:solidFill>
            <a:srgbClr val="cc99ff">
              <a:alpha val="7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17800" y="1436760"/>
            <a:ext cx="420480" cy="2830320"/>
          </a:xfrm>
          <a:custGeom>
            <a:avLst/>
            <a:gdLst/>
            <a:ahLst/>
            <a:rect l="l" t="t" r="r" b="b"/>
            <a:pathLst>
              <a:path w="265" h="1783">
                <a:moveTo>
                  <a:pt x="0" y="1783"/>
                </a:moveTo>
                <a:lnTo>
                  <a:pt x="0" y="805"/>
                </a:lnTo>
                <a:lnTo>
                  <a:pt x="265" y="0"/>
                </a:lnTo>
                <a:lnTo>
                  <a:pt x="265" y="978"/>
                </a:lnTo>
                <a:lnTo>
                  <a:pt x="0" y="1783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54120" y="1436760"/>
            <a:ext cx="696960" cy="2830320"/>
          </a:xfrm>
          <a:custGeom>
            <a:avLst/>
            <a:gdLst/>
            <a:ahLst/>
            <a:rect l="l" t="t" r="r" b="b"/>
            <a:pathLst>
              <a:path w="439" h="1783">
                <a:moveTo>
                  <a:pt x="0" y="0"/>
                </a:moveTo>
                <a:lnTo>
                  <a:pt x="430" y="805"/>
                </a:lnTo>
                <a:lnTo>
                  <a:pt x="439" y="1783"/>
                </a:lnTo>
                <a:lnTo>
                  <a:pt x="0" y="960"/>
                </a:lnTo>
                <a:lnTo>
                  <a:pt x="0" y="0"/>
                </a:lnTo>
                <a:close/>
              </a:path>
            </a:pathLst>
          </a:custGeom>
          <a:solidFill>
            <a:srgbClr val="cc99ff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41320" y="5334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quare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46240" y="155268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0920" y="227016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43000" y="300528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3738600"/>
            <a:ext cx="3106800" cy="7412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3040" y="3746520"/>
            <a:ext cx="784080" cy="73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7480" y="3740040"/>
            <a:ext cx="784080" cy="73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500"/>
                            </p:stCondLst>
                            <p:childTnLst>
                              <p:par>
                                <p:cTn id="9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06520" y="3736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yra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27200" y="177012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18040" y="1762200"/>
            <a:ext cx="161100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2427120" y="1757160"/>
            <a:ext cx="1611360" cy="13935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10800000">
            <a:off x="4030560" y="176364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500"/>
                            </p:stCondLst>
                            <p:childTnLst>
                              <p:par>
                                <p:cTn id="9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71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 the space figure you can form from each ne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34960" y="553716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ngular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38160" y="1312920"/>
            <a:ext cx="1611360" cy="13939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5045040" y="4303440"/>
            <a:ext cx="1611360" cy="139356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43200" y="270036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48080" y="269388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51520" y="2701800"/>
            <a:ext cx="1611360" cy="16113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23  10 – 4 #1 – 6, 8 – 26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area of each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2057400"/>
            <a:ext cx="2743200" cy="2362320"/>
            <a:chOff x="533520" y="2057400"/>
            <a:chExt cx="2743200" cy="2362320"/>
          </a:xfrm>
        </p:grpSpPr>
        <p:sp>
          <p:nvSpPr>
            <p:cNvPr id="85" name=""/>
            <p:cNvSpPr/>
            <p:nvPr/>
          </p:nvSpPr>
          <p:spPr>
            <a:xfrm>
              <a:off x="914400" y="2057400"/>
              <a:ext cx="2362320" cy="2362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32004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66680" y="4495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029200"/>
            <a:ext cx="28954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3 )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638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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05520" y="2057400"/>
            <a:ext cx="2895480" cy="2362320"/>
            <a:chOff x="5105520" y="2057400"/>
            <a:chExt cx="2895480" cy="2362320"/>
          </a:xfrm>
        </p:grpSpPr>
        <p:sp>
          <p:nvSpPr>
            <p:cNvPr id="94" name=""/>
            <p:cNvSpPr/>
            <p:nvPr/>
          </p:nvSpPr>
          <p:spPr>
            <a:xfrm>
              <a:off x="5638680" y="205740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8680" y="32767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28958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2210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638680" y="4495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5029200"/>
            <a:ext cx="335304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area of each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2133720"/>
            <a:ext cx="3352680" cy="4419360"/>
            <a:chOff x="685800" y="2133720"/>
            <a:chExt cx="3352680" cy="4419360"/>
          </a:xfrm>
        </p:grpSpPr>
        <p:grpSp>
          <p:nvGrpSpPr>
            <p:cNvPr id="106" name=""/>
            <p:cNvGrpSpPr/>
            <p:nvPr/>
          </p:nvGrpSpPr>
          <p:grpSpPr>
            <a:xfrm>
              <a:off x="1219320" y="2133720"/>
              <a:ext cx="1828800" cy="3657600"/>
              <a:chOff x="1219320" y="2133720"/>
              <a:chExt cx="1828800" cy="365760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219320" y="3048120"/>
                <a:ext cx="1828800" cy="182880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179360" y="2173320"/>
                <a:ext cx="1905120" cy="182556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257480" y="3086280"/>
                <a:ext cx="1752480" cy="18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4240" y="312444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219320" y="342936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1182960" y="3926160"/>
                <a:ext cx="1904760" cy="182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580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8120" y="3505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30481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876920"/>
              <a:ext cx="289584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62120" y="1981080"/>
            <a:ext cx="2895480" cy="4114800"/>
            <a:chOff x="762120" y="1981080"/>
            <a:chExt cx="2895480" cy="4114800"/>
          </a:xfrm>
        </p:grpSpPr>
        <p:sp>
          <p:nvSpPr>
            <p:cNvPr id="118" name=""/>
            <p:cNvSpPr/>
            <p:nvPr/>
          </p:nvSpPr>
          <p:spPr>
            <a:xfrm>
              <a:off x="1219320" y="3047760"/>
              <a:ext cx="1828800" cy="175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77600" y="297180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523880" y="304740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3000" y="1981080"/>
              <a:ext cx="23623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38862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80060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952880" y="3048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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2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3657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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1337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800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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676520"/>
            <a:ext cx="1752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3 f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9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25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5410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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167652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10 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352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962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25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20968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5 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1337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038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4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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676520"/>
            <a:ext cx="2210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20 c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3526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400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0384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4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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0384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144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876920" y="1676520"/>
            <a:ext cx="2743200" cy="2361960"/>
            <a:chOff x="4876920" y="1676520"/>
            <a:chExt cx="2743200" cy="2361960"/>
          </a:xfrm>
        </p:grpSpPr>
        <p:sp>
          <p:nvSpPr>
            <p:cNvPr id="156" name=""/>
            <p:cNvSpPr/>
            <p:nvPr/>
          </p:nvSpPr>
          <p:spPr>
            <a:xfrm>
              <a:off x="5257800" y="1676520"/>
              <a:ext cx="2362320" cy="2361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6920" y="1752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2819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294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1911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6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943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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1911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72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64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1752480"/>
            <a:ext cx="2895480" cy="2362320"/>
            <a:chOff x="228600" y="1752480"/>
            <a:chExt cx="2895480" cy="2362320"/>
          </a:xfrm>
        </p:grpSpPr>
        <p:sp>
          <p:nvSpPr>
            <p:cNvPr id="168" name=""/>
            <p:cNvSpPr/>
            <p:nvPr/>
          </p:nvSpPr>
          <p:spPr>
            <a:xfrm>
              <a:off x="761760" y="175248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1760" y="2971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419720" y="4191120"/>
            <a:ext cx="259056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943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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4191120"/>
            <a:ext cx="259056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900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19720" y="1752480"/>
            <a:ext cx="2895480" cy="2362320"/>
            <a:chOff x="4419720" y="1752480"/>
            <a:chExt cx="2895480" cy="2362320"/>
          </a:xfrm>
        </p:grpSpPr>
        <p:sp>
          <p:nvSpPr>
            <p:cNvPr id="178" name=""/>
            <p:cNvSpPr/>
            <p:nvPr/>
          </p:nvSpPr>
          <p:spPr>
            <a:xfrm>
              <a:off x="4952880" y="175248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2880" y="2971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972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14800" y="1752480"/>
            <a:ext cx="1904760" cy="1905120"/>
          </a:xfrm>
          <a:prstGeom prst="ellipse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figure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6640" y="536256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70 + ½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12.25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5720" y="5973840"/>
            <a:ext cx="388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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19040" y="4714920"/>
            <a:ext cx="37371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70 + 1/2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3.5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18000" y="59720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89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3240" y="1752480"/>
            <a:ext cx="3276720" cy="1919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1800" y="1751040"/>
            <a:ext cx="3300480" cy="1908000"/>
          </a:xfrm>
          <a:custGeom>
            <a:avLst/>
            <a:gdLst/>
            <a:ahLst/>
            <a:rect l="l" t="t" r="r" b="b"/>
            <a:pathLst>
              <a:path w="2117" h="1193">
                <a:moveTo>
                  <a:pt x="2085" y="0"/>
                </a:moveTo>
                <a:lnTo>
                  <a:pt x="0" y="0"/>
                </a:lnTo>
                <a:lnTo>
                  <a:pt x="0" y="1193"/>
                </a:lnTo>
                <a:lnTo>
                  <a:pt x="2117" y="119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4640" y="1751040"/>
            <a:ext cx="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1800" y="348948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2960" y="174960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5880" y="175896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31800" y="1301760"/>
            <a:ext cx="20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02120" y="20588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000" y="239400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3360" y="1301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4000" y="1755720"/>
            <a:ext cx="0" cy="190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45640" y="4002120"/>
            <a:ext cx="2109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1/2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60240" y="4079880"/>
                <a:ext cx="306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50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5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90480" y="1703520"/>
            <a:ext cx="1857600" cy="18572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41600" y="1711440"/>
            <a:ext cx="1873080" cy="18572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figure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640" y="536256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1600 +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400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5720" y="59738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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4714920"/>
            <a:ext cx="47674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600 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18000" y="59720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2856 y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3360" y="1301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25720" y="4016520"/>
            <a:ext cx="14590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50720" y="4079880"/>
                <a:ext cx="3483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611360" y="1711440"/>
            <a:ext cx="1843200" cy="184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84440" y="169704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3562200"/>
            <a:ext cx="182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3394080"/>
            <a:ext cx="16056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1703520"/>
            <a:ext cx="16020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87880" y="3400560"/>
            <a:ext cx="16020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81400" y="1709640"/>
            <a:ext cx="160200" cy="1605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87640" y="126036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89120" y="238608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68600" y="1698480"/>
            <a:ext cx="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11440" y="239076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-8.33333E-007 1.56069E-006 L 0.4033 0.03167 E">
                                      <p:cBhvr>
                                        <p:cTn id="585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8.05556E-006 4.56647E-006 L 0.60469 0.03376 E">
                                      <p:cBhvr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L 0.40156 0.03376 E">
                                      <p:cBhvr>
                                        <p:cTn id="591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9017E-006 L 0.39358 0.03029 E">
                                      <p:cBhvr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Which has a greater area, a circle with radius 2 m or a square with side length 2 m? Explai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2240" y="530532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5720" y="5959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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5480" y="4729320"/>
            <a:ext cx="47671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6080" y="4118040"/>
            <a:ext cx="1824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50800" y="1674720"/>
            <a:ext cx="2743200" cy="2361960"/>
            <a:chOff x="550800" y="1674720"/>
            <a:chExt cx="2743200" cy="2361960"/>
          </a:xfrm>
        </p:grpSpPr>
        <p:sp>
          <p:nvSpPr>
            <p:cNvPr id="231" name=""/>
            <p:cNvSpPr/>
            <p:nvPr/>
          </p:nvSpPr>
          <p:spPr>
            <a:xfrm>
              <a:off x="931680" y="1674720"/>
              <a:ext cx="2362320" cy="2361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0800" y="17506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51000" y="281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3280" y="2436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162160" y="2816280"/>
            <a:ext cx="1143000" cy="1143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82840" y="2435400"/>
            <a:ext cx="7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1520" y="5081760"/>
            <a:ext cx="37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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2160" y="4367160"/>
            <a:ext cx="24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(2)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172120" y="5862600"/>
            <a:ext cx="199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ircl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0 0 L 0.38577 -0.06127 E">
                                      <p:cBhvr>
                                        <p:cTn id="65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0 0 L 0.38577 -0.06127 E">
                                      <p:cBhvr>
                                        <p:cTn id="65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6-04-20T18:55:41Z</dcterms:modified>
  <cp:revision>18</cp:revision>
  <dc:subject/>
  <dc:title>No Slide Title</dc:title>
</cp:coreProperties>
</file>